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43AC6-38F2-4802-B220-9772F11F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F32A0-7CB3-4591-8B41-162DE2E0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00C67-DCED-4AA6-994F-035D5825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E5731-B2FB-48CB-8432-D32C14E6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5658-7CED-474F-AF33-5E409517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F425-200A-46A6-86E0-28D3E42B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A3E1-7E4E-42A3-AC7E-A4416492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E074-1CBA-467E-A533-2802AE7F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F1C6-8C12-4547-97D2-1ED9B38B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1197-5952-470A-B7CB-F2E89136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5A5D-5F78-4D60-8AE1-112B18B8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C9C7F-BE6F-423E-9897-154D1974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F02C-AB42-4C96-BDEF-FBE4A726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B18D-C97B-46D0-A925-8D418D1F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932E-C358-483E-82E1-DDF5C01D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69DE-A0D8-4D36-B379-38A956D9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4A74-6920-4562-92E4-EB030E9D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6A45-1589-4CBE-8AD1-4480D426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D4A72-6A15-44EB-981C-E06A919F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BE6C6-4615-4DE4-AC72-513AC7C8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862A3-66FF-4A3A-BC03-91103691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61837-7AC0-4933-882F-ADCB9362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D5FD2-D497-41F6-AB5B-A192F16F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AB60C-D18B-4C10-BD91-817C47C6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E069-934D-44F1-BCBC-1467A61CAAA7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4451-E001-471A-93AF-F3A50981991C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jfifo.uw.hu/vendegl.doc" TargetMode="External"/><Relationship Id="rId2" Type="http://schemas.openxmlformats.org/officeDocument/2006/relationships/hyperlink" Target="http://vallalkozokedv.webkatalogus.com/v_formak.html" TargetMode="External"/><Relationship Id="rId3" Type="http://schemas.openxmlformats.org/officeDocument/2006/relationships/hyperlink" Target="http://vallalkozokedv.webkatalogus.com/v_formak.html" TargetMode="Externa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gyéni vállalkozás: </a:t>
            </a:r>
            <a:br>
              <a:rPr sz="4400"/>
            </a:b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hagyományos étterem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03884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Terjeszkedési lehető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a főváros különböző belső kerületeibe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vidéki nagyvárosokb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63852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8c1ba"/>
                </a:solidFill>
                <a:latin typeface="Garamond"/>
              </a:rPr>
              <a:t>Irodalomjegyzé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hjfifo.uw.hu/vendegl.doc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vallalkozokedv.webkatalogus.com/v_formak.html</a:t>
            </a: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5229360"/>
            <a:ext cx="40323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Készítette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Palotai Tíme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Barakka Patríci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.11.01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Szükséges dolgozó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üzletvezető (vendéglátó-ipari végzettséggel)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nyvelő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pincé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szakács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4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Kft. Indítási költségei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Törzstőke: minimum 3.000.000,- Ft, ennek minimum a 30 %-nak, de  legalább 1.000.000,- forintnak készpénznek kell lennie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Egy tag törzsbetéte 100.000,- Ft-nál kevesebb nem lehet, s a forintban kifejezendő törzsbetét tízezerrel maradéktalanul osztható legyen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Közzétételi díj 2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Illeték 8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láírási címpéldány min, 5 db 2.000,- Ft/db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Ügyvédi díj: ügyvédtől függő, kb. 100.000,- 120.000 Ft.</a:t>
            </a:r>
            <a:br>
              <a:rPr sz="2000"/>
            </a:br>
            <a:r>
              <a:rPr b="0" lang="en-US" sz="20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ngedély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ÁNTSZ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tűzvédelmi hatóságok hozzájárulás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jövedéki engedély alkohol és dohányárur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működé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területi árusítá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Bejelentési kötelezett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szeszes ital forgalmazásának bejelentése a rendőrségen 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 zene/műsorszolgáltatás bejelentése a rendőrségen,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z üzlet osztályba sorolás</a:t>
            </a:r>
            <a:r>
              <a:rPr b="0" lang="en-US" sz="2400" spc="-1" strike="noStrike">
                <a:solidFill>
                  <a:srgbClr val="f7f3f3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 a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I. osztályba sorolás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elkülönített fogadótér a bejárattó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ndégekkel érintkező dolgozók formaruhát visel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zető és a konyhafőnök szakképzett és 5 év szakmai gyakorlata van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fellépő művészek A típusú igazolvánnyal rendelkez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égfelirat készítése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név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üzlettípus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ulajdonos neve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vállalkozás formája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Arcul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dohányzó és nemdohányzó 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barátságos légkö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ert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03200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c1ba"/>
                </a:solidFill>
                <a:latin typeface="Garamond"/>
              </a:rPr>
              <a:t>Elhelyezkedés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ővárosba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el a központhoz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orgalmas helye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327480" cy="380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8:27:06Z</dcterms:created>
  <dc:creator>Pekár Mihály</dc:creator>
  <dc:description/>
  <dc:language>en-US</dc:language>
  <cp:lastModifiedBy>Jakab</cp:lastModifiedBy>
  <dcterms:modified xsi:type="dcterms:W3CDTF">2010-07-05T21:45:20Z</dcterms:modified>
  <cp:revision>6</cp:revision>
  <dc:subject/>
  <dc:title>Egyéni vállalkozás: hagyományos étterem</dc:title>
</cp:coreProperties>
</file>