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53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114B-3451-44C5-A907-38914651B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A5FA-7BA3-4768-BE95-E535CECB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D5F1-608D-40BB-BF63-B829287A5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D7F2-5961-40EB-8DB4-507632016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AB67-5D35-49CB-A21A-1680E6CB0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20F5-482B-412C-B536-495E6741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4F3A1-8E06-4730-8FFF-67BBDD4F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49AD2-3D6C-4850-A3B1-D700247F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8556-4D22-4A97-85B5-763AD280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21BE-ADEC-45BF-8B4C-0516E797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CB0C-A110-425F-94C3-5ACB314F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E625-EF5D-43F1-8495-C97B5D22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41180-4BFE-499C-8A62-606FC0D2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DE0F-DFAA-4038-ABB9-CE775E38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8105-C751-41AC-8230-0EEF7B6E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FF1FA-D377-4FBE-9E1F-4725F4A49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2C67-A33D-4215-83EE-9F45AD57C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FB6A8-C3D8-4069-A353-910E9A3D2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15D84-E881-47B1-8A8B-739278E8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69AD6-5302-4F04-8D8D-B51CEC0F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9CB21-36D3-4C41-84DE-11D0C371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6ED14-E107-473C-A923-DF9B8868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A1DB-067D-4C86-B545-7A90DBEB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291B2-5E19-4C8B-974A-D2BD1FC4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BF5DC-9564-46B4-8AF9-B4828483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4FBA1-B77A-4849-9426-A5F6EE76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E3409-D271-429A-9106-26B07902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B2D3F-368B-4932-89B6-B32FD680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8DAA0-25A0-413C-9EA2-EBB06A4F6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38B9E-A30F-41CA-A5C4-B0CC7A408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F307C-3360-4F86-B595-535AB0B4D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9951C-2FDF-4761-AB2E-0E169113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752CE-7E18-40C9-A5FE-FD4501F5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A0DA-957B-44C9-B3CB-42F0A52D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7FBEB-042B-4EB4-88A3-54FE2439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3DA39-72BF-45F5-AB9E-60543312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B333A-EEBA-4E86-80C2-B54E1782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431C4-27FB-4CF5-82CD-B0CB8F3B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1486D-2076-4D3E-972A-9F42CD96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0040B-7295-4CC0-9ED7-8D947E82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BBF15-283E-44AA-8948-81612AF8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CCCE4-B7C6-4DBF-AB95-734B4E2C6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D584E-D211-444F-80C0-B9E3740B8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AF285-4E24-4427-8AD5-CEF279501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C7F5-8DF3-43F7-B90C-6FD31DBE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0F928-EB7F-4837-9C1E-FFC8341B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46F09-18AF-4FB3-B971-3C7A6196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39A8A-F5E7-45F3-850C-528E1DA7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88020-4D32-40DC-9A29-AE409454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7ABCE-5682-4541-B41F-EB350805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B2853-8475-4DEA-9BF8-C0DB16FE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3A9BF-9ED0-440F-8BA1-C99A9DA3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57AEE-390F-4A0C-88C9-C7E5BBBF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2BD2E-D098-4486-A816-09BD13C2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6D2DE-507E-4445-A8D5-C0AC1A193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EE51-377F-4BF3-846F-5E9580E0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30CF0-FB8D-4101-B65C-6EBF2F532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2C1EA-DB28-41FB-AF02-AE5DA1CDE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FCB6E-1B8F-4779-8280-1F38F98C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3FB0C-2220-4A1A-8202-FA6BB42E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DE96D-FE85-4CC5-B700-6BF92F36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C748B-F1E7-4ACD-B26F-69D42219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43FBB-2E3E-4CBF-8361-D04048AB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3C196-367C-4A35-8922-203C59E3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332A7-3CD8-4307-AE84-25B7796B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4666E-92DB-4A76-BEE9-D7931DDA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D374-4EF3-4A41-B837-91B1F5E8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77A0E-73A4-4587-8219-5D5CC061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04732-5C2E-4591-B548-77EEAA33A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3C2AB-BD1C-4018-80EA-5940108E6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BC358-D6D7-4D97-92EC-AF5619FE7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EBB2B-EAF0-4879-9F7C-A43CE222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AAE52-80D2-47AF-8D79-DFD8F7B2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D195C-22D6-4ED0-8159-A3E60704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FD206-E648-45B3-AC50-CDA17CCC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9FB19-3C5D-4F0A-A767-F694C87E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B1594-BE5F-48AC-8E6A-907CF30D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0B93-BFBB-4039-8051-6CB76CEC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A4EC8-78FC-4D64-AAAF-84E83025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5C045-9FC8-4291-B6C7-1C38EB62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B4E58-D3F1-42FA-B138-4A742C50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EFBFD-314C-44EB-BD71-A33018F2F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2D893-E584-4027-BC67-7D2AC2E77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6DCAA-B277-43B2-89E5-667966DEB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F2050-374B-4B6B-8AAB-F9058EBB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F5C4A-CCAD-4075-812E-A0A41561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66BEE-32E7-43C9-8352-02A61554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E36C6-4AFC-49BE-8CB5-C6D76FEA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5D11-0C4A-4759-B7BC-1E055D16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2D2C7-E6BB-4FD4-BC2D-55D97341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B05E4-F3AE-4AF3-8162-97095764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84222-2D64-43CE-9CBA-24D0A7FA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E8AC1-E9B1-4941-BAAE-0F6559C0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7CD0B-1B7E-44D2-9E97-CA64F848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BAD80-E6FC-41DA-8A17-24EB60433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8E350-B195-426A-96A8-1B9A179C3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erékszögű háromszög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Egyenes összekötő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Egyenes összekötő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7F76-0FBB-4D6F-8F30-DFB6A23FF10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Derékszögű háromszög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Egyenes összekötő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Egyenes összekötő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Háromszög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5F7C-1B87-4D14-890B-2181550F5C50}" type="slidenum">
              <a:rPr b="0" lang="hu-H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erékszögű háromszög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Egyenes összekötő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Egyenes összekötő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2A20-809C-4EB4-884D-65A64BDECD3E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erékszögű háromszög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Háromszög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Egyenes összekötő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Egyenes összekötő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1928-BD2E-49D3-9A52-CBFD8014C8CD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Derékszögű háromszög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Egyenes összekötő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Egyenes összekötő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7F59-0ED1-40FE-B04C-D1EB86A0F57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F35B-A2B7-46AF-82AE-6564969AAF3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E3A7-9C77-45B0-93EA-0443D1CA9560}" type="slidenum">
              <a:rPr b="0" lang="hu-H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63E7-B9B3-4DF0-A9D5-81A3FF6F4D25}" type="slidenum">
              <a:rPr b="0" lang="hu-H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Cím 1" descr=""/>
          <p:cNvPicPr/>
          <p:nvPr/>
        </p:nvPicPr>
        <p:blipFill>
          <a:blip r:embed="rId1"/>
          <a:stretch/>
        </p:blipFill>
        <p:spPr>
          <a:xfrm>
            <a:off x="566640" y="1749600"/>
            <a:ext cx="842508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68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69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Cím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92708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romlotta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javulta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ugyan olyanok maradta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Cím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927080"/>
          </a:xfrm>
          <a:prstGeom prst="rect">
            <a:avLst/>
          </a:prstGeom>
          <a:ln w="0">
            <a:noFill/>
          </a:ln>
        </p:spPr>
      </p:pic>
      <p:pic>
        <p:nvPicPr>
          <p:cNvPr id="373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74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76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77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Cím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9270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ige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ne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Cím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81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82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84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85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Cím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9270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álmaimat kívánom megvalósítani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a legjobb képességeimet veszem figyelemb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figyelemmel kísérem a munkaerőpiacot és a szükséges szakemberek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D) még nem tudom mi lesz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Cím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89" name="Tartalom helye 9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90" name="Tartalom helye 10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92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93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Cím 1" descr=""/>
          <p:cNvPicPr/>
          <p:nvPr/>
        </p:nvPicPr>
        <p:blipFill>
          <a:blip r:embed="rId1"/>
          <a:stretch/>
        </p:blipFill>
        <p:spPr>
          <a:xfrm>
            <a:off x="493560" y="-66600"/>
            <a:ext cx="8242560" cy="19256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szülők vélemény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egyéni véleménye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tanáraim vélemény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D) ismerősöm, családtagom jár(t) ide, s az ő véleménye alapjá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Cím 4" descr=""/>
          <p:cNvPicPr/>
          <p:nvPr/>
        </p:nvPicPr>
        <p:blipFill>
          <a:blip r:embed="rId1"/>
          <a:stretch/>
        </p:blipFill>
        <p:spPr>
          <a:xfrm>
            <a:off x="450720" y="182520"/>
            <a:ext cx="8528040" cy="31831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57200" y="335736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144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ige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ne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Cím 6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97" name="Tartalom helye 16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98" name="Tartalom helye 17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400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401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Cím 1" descr=""/>
          <p:cNvPicPr/>
          <p:nvPr/>
        </p:nvPicPr>
        <p:blipFill>
          <a:blip r:embed="rId1"/>
          <a:stretch/>
        </p:blipFill>
        <p:spPr>
          <a:xfrm>
            <a:off x="450720" y="158760"/>
            <a:ext cx="8242560" cy="19940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2357280"/>
            <a:ext cx="8229600" cy="40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csalá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karri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a kettő összhangj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Cím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405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406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408" name="Tartalom helye 5" descr=""/>
          <p:cNvPicPr/>
          <p:nvPr/>
        </p:nvPicPr>
        <p:blipFill>
          <a:blip r:embed="rId2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409" name="Tartalom helye 7" descr=""/>
          <p:cNvPicPr/>
          <p:nvPr/>
        </p:nvPicPr>
        <p:blipFill>
          <a:blip r:embed="rId3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Cím 5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57420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6143760"/>
            <a:ext cx="82296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57200" y="207144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álint Zsófi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Fehér Judi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Tátrai Kitti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Vas Ver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12.B osztályos tanuló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2009. November 16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Cím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49" name="Tartalom helye 7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50" name="Tartalom helye 8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52" name="Tartalom helye 9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53" name="Tartalom helye 8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Cím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431200" cy="15476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körülbelül ugyanannyi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sokkal több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kevesebb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Cím 1" descr=""/>
          <p:cNvPicPr/>
          <p:nvPr/>
        </p:nvPicPr>
        <p:blipFill>
          <a:blip r:embed="rId1"/>
          <a:stretch/>
        </p:blipFill>
        <p:spPr>
          <a:xfrm>
            <a:off x="396720" y="-85680"/>
            <a:ext cx="8485200" cy="1927080"/>
          </a:xfrm>
          <a:prstGeom prst="rect">
            <a:avLst/>
          </a:prstGeom>
          <a:ln w="0">
            <a:noFill/>
          </a:ln>
        </p:spPr>
      </p:pic>
      <p:pic>
        <p:nvPicPr>
          <p:cNvPr id="357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58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60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61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hogy jó jegyet kapja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hogy minél műveltebb legye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hogy másoknak megfelelje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D) hogy folytathassam a tanulást valamilyen felsőoktatási intézménybe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Cím 3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65" name="Tartalom helye 6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66" name="Tartalom helye 7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5:08:36Z</dcterms:created>
  <dc:creator>Agora Kft.</dc:creator>
  <dc:description/>
  <dc:language>en-US</dc:language>
  <cp:lastModifiedBy>Jakab</cp:lastModifiedBy>
  <dcterms:modified xsi:type="dcterms:W3CDTF">2010-07-05T21:42:34Z</dcterms:modified>
  <cp:revision>64</cp:revision>
  <dc:subject/>
  <dc:title>Jövőkép és önismeret a 15-16 éves Apáczais diákoknál</dc:title>
</cp:coreProperties>
</file>